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7E5-212D-47C6-857A-A24010C1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7B0-6B58-4209-B994-9D5633A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0B0-3F33-4510-8541-6120AD11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8C5-F1C6-4A42-A784-BB3CF814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105-26F0-414E-9633-D2E12A7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BF1-51A8-47BD-A1DA-973AE138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474-98B9-44F2-8F56-7BD80DFF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7B0-2CEB-444F-8675-C6A6B045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94C-3B6D-40DB-8876-4F161ED3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8F2-5E4C-4EF6-A898-35CA522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1DC-5511-4244-A91C-094C834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4A4-397C-443D-A30A-A86F179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B20-B928-4430-B606-AE81B2A9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ego de C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951200">
            <a:off x="533160" y="4038480"/>
            <a:ext cx="133344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01800">
            <a:off x="7162560" y="4191120"/>
            <a:ext cx="1452600" cy="24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733920" y="304920"/>
            <a:ext cx="1371600" cy="182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70200">
            <a:off x="685440" y="380880"/>
            <a:ext cx="1057320" cy="166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19506000">
            <a:off x="7086600" y="304560"/>
            <a:ext cx="162864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447920" y="2133720"/>
            <a:ext cx="105552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400800" y="2362320"/>
            <a:ext cx="1160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  —¡Se iba la vieja! —pensaba con el alma destrozada Antón el hura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  —Llamad, señor Andrés, ahora —decía el labrador— al desfacedor de agravios; veréis cómo no desface aquéste. Aunque creo que no está acabado de hacer, porque me viene gana de desollaros vivo, como vos temíad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.  Era siempre su temor de mociña guapa y requebrada, que el padre la mancase, como le había sucedido a la Mariola, su prima, señalada por su propia madre en la frente con el aro de la criba, que le desgarró los tej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. Por Dios, amigo, si yo tal cosa hiciese sería os ya muy falso amigo, ca vos tenéis muy buen hijo, y tendría que hacía muy gran maldad si yo consintiese su mal y su muerte; ca soy cierto que, si con mi hija casase, que o sería muerto o le valdría más la muerte que la vida. Y no entendáis que os digo esto por no cumplir vuestro talante , ca si la quisiereis, a mí mucho me place de la dar a vuestro hijo, o a quienquiera que me la saque de cas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2. -A la fe, don Fulán, tarde os acordasteis ca ya no os valdría nada si mataseis cien caballos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Los ríos le atrajeron desde pequeñita, aun antes de haber visto ningun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4. Un palo del telégrafo, plantado allí como pendón de conquista, con su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jíca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blancas y sus alambres paralelos a derecha e izquierda, representaba para Rosa y Pinín el ancho mundo desconocido, misterioso, temible, eternamente igno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La ventura va guiando nuestras cosas mejor de lo que acertáramos a desear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Y nunca más el barco la recibió en sus concavidades para llevarla hacia nuevos horizontes de holganza y lujo. Los que allá vayan, han de ir sanos, válidos, y las mujeres, con sus ojos alumbrando y su dentadura completa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Allá iba, como la otra, como la vaca abuela. Se lo llevaba el mundo. Carne de vaca para los glotones, para los indianos; carne de su alma, carne de cañón para las locuras del mundo, para las ambiciones ajen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 por título del texto correspondiente las siguientes citas claves de la narrativa española, desde el Medioevo hasta el siglo X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pc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zarillo de Tor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aufra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 Manuel Bueno, Má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De mí sé decir que me he de quejar del más pequeño dolor que tenga si ya no se entiende también con los escuderos de los caballeros andantes eso del no quej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—Se puede uno pasar la vida, hija, sin perderse por mundos nuevos. Y hasta ser sabio. Todo es igual de nuevo aquí que en otro sitio; tú al abuelo no le hagas caso en esas historias de los viajes. El abuelo se sonre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a ya lo veremos, Benjamín. No sirve que tú quieras o no quie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Parece que el ilustrísimo señor obispo...se propone escribir...una especie de manual del perfecto párroco, y recoge para ello toda clase de noticias. A mí me las ha pedido con insistencia, ha tenido entrevistas conmigo, le he dado toda clase de datos, pero me he callado siempre el secreto trágico de don Manuel y de mi herman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zarillo de T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uelva Usted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ufrag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zarillo de T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XXXV de El Conde Luca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edias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diós, Corde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Quij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t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Manuel Bueno, Má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Gran persona debió de ser el primero que llamó pecado mortal a la pe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  ...me pidió a mi madre, y ella me entregó a él, diciéndole que era hijo de un buen hombre...y que le rogaba me tratase bien y mirase por mí, pues era huérfano. Él respondió que así lo haría y que me recibía, no por mozo, sino por hijo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...dádselos en reales, que con eso me contento; y mirad que lo cumpláis como lo habéis jurado; si no, por el mismo juramento os juro de volver a buscaros y a castigaros, y que os tengo de hallar, aunque os escondáis más que una lagarti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  En un lugar de la Mancha, de cuyo nombre no quiero acordarme, no ha mucho tiempo que vivía un hidalgo de los de lanza en astillero, adarga antigua, rocín flaco y galgo corred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  No paró aquí; un sastre tardó veinte días en hacerle un frac, que le había mandado llevarle en veinticuatro horas; el zapatero le obligó con su tardanza a comprar botas hechas; la planchadora necesitó quince días para plancharle una camisola, y el sombrerero, a quien le había enviado su sombrero a variar el ala, le tuvo dos días con la cabeza al aire y sin salir de cas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  ...aquella noche me dieron de las tunas que tenían, y otro día partimos de allí, y fuimos donde hallamos muchas tunas, con que todos satisficieron su gran hambre, y nosotros dimos muchas gracias a nuestro Señor porque nunca nos faltaba su remed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.  Mi viuda madre, al verse sin marido y sin abrigo, determinó arrimarse a los buenos, para ser uno de ellos, vinose a vivir a la ciudad, alquiló una casilla, y dedicóse a guisar para ciertos mozos de caballos del comendador de la Magdalena, de manera que fue frecuentando las caballeriz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7:33:50Z</dcterms:created>
  <dc:creator>....</dc:creator>
  <dc:description/>
  <dc:language>en-US</dc:language>
  <cp:lastModifiedBy>....</cp:lastModifiedBy>
  <dcterms:modified xsi:type="dcterms:W3CDTF">2006-04-03T02:04:40Z</dcterms:modified>
  <cp:revision>6</cp:revision>
  <dc:subject/>
  <dc:title>Slide 1</dc:title>
</cp:coreProperties>
</file>